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D537-87EC-4E4A-AEEB-A8645D413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1499-D826-41AB-8F14-7FB1C4B1DC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069E-AB26-48F8-918C-38F7F6E2A9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2AB0-80E2-44F6-881B-28018AF229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 exposure to language in use to allow  incidental learning  and generative proces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us encourage some direct lear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103A-11DB-486E-A569-1322BDDDF2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2E0B-CE00-4326-AAA2-8DD3BF1874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5AAB-EC42-408F-B2E0-F438126B08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9BD9-8D12-4218-AA54-82971EA36D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 –led tasks – mind-maps – rapid vocab building - phr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for a purpose – whose questions have been answer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ycling topic vocabulary – spaced re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pose for re-reading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ing and telling their own version – time to plan – to enrich their language before going public – ‘pushed output  Sw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B84A-DBE1-4B2E-9DAF-80C71F87C7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E45F-71F3-4E80-8F7B-D1CC009CB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6014-8E84-41C4-A91F-E1448213FC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E78D-125B-4926-AEBA-7FE91C02D5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7418-B6CA-4196-ADF8-E1AB7AAAC0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0F34-8C82-4C14-82B2-02C00B680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69C9-717E-4DB8-81FC-3DD1B434B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9F31-3E87-4F2C-9B70-62AAE88DE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AECD-ECB2-442D-84AC-127347A2EE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BD24-4A2C-4682-AE8D-1B5975AEF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2B7B-E996-4C65-B49A-7B7DF1F56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2B45-47CC-4DDF-A004-3B5A9DC97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B61B-A8D6-4E11-BA0B-A37D31478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0A32-0E35-4196-81FA-46E2E413E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3FC3-B584-44CE-BE53-E14C9241A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3A0C-DF4C-43A3-868E-312AD275F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A256-53BF-42D8-94AA-4F34447C7C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008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9144000" cy="1454040"/>
          </a:xfrm>
          <a:prstGeom prst="rect">
            <a:avLst/>
          </a:prstGeom>
          <a:solidFill>
            <a:srgbClr val="008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1" marL="743040" indent="-285840">
              <a:lnSpc>
                <a:spcPct val="10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4" marL="2057400" indent="-228600">
              <a:lnSpc>
                <a:spcPct val="108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5" marL="2057400" indent="-228600">
              <a:lnSpc>
                <a:spcPct val="108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6" marL="2057400" indent="-228600">
              <a:lnSpc>
                <a:spcPct val="108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9"/>
          <a:stretch/>
        </p:blipFill>
        <p:spPr>
          <a:xfrm>
            <a:off x="171360" y="6164280"/>
            <a:ext cx="136692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441440"/>
            <a:ext cx="9144000" cy="5416560"/>
          </a:xfrm>
          <a:prstGeom prst="rect">
            <a:avLst/>
          </a:prstGeom>
          <a:solidFill>
            <a:srgbClr val="008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9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239760" y="254160"/>
            <a:ext cx="2162160" cy="88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1" marL="743040" indent="-285840">
              <a:lnSpc>
                <a:spcPct val="108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4" marL="2057400" indent="-228600">
              <a:lnSpc>
                <a:spcPct val="108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5" marL="2057400" indent="-228600">
              <a:lnSpc>
                <a:spcPct val="108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6" marL="2057400" indent="-228600">
              <a:lnSpc>
                <a:spcPct val="108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illis-elt.co.uk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illis-elt.co.uk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hyperlink" Target="http://www.willis-elt.co.uk/taskbased.html" TargetMode="External"/><Relationship Id="rId17" Type="http://schemas.openxmlformats.org/officeDocument/2006/relationships/hyperlink" Target="http://www.willis-elt.co.uk/taskbased.html" TargetMode="Externa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91" name="Picture 4" descr="View over Bu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0" y="5516640"/>
            <a:ext cx="91440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ne Will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riter and ELT consul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norary Visiting Fellow, Aston University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55640" y="333360"/>
            <a:ext cx="734544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 Lexical Approach t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-based Language Tea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me examples of tasks &amp; task sequ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9648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Memory challenge – objects on a tray  (teacher led&gt;pairs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Guess what I’ve got in my bag today!  (teacher led&gt;pairs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Draw up your ideal school timetable (11-12 year olds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Plan a class party for the end of term  (mind map &gt; group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Describe in detail how to make your favourite food; classify dishes, then compare recipes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Earthquake safety – design a leaflet for overseas visitors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12484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asks built around texts can extend vocabular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8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Learners research topics to prepare for (or set) quizzes:  good for any general knowledge topic e.g. snakes, sharks, volcanoes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358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35880" indent="-335880">
              <a:lnSpc>
                <a:spcPct val="98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Preparation for discussion:  research online (e.g. drugs, local traffic, lifestyles of rock stars...) NB set a specific task to achieve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358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35880" indent="-335880">
              <a:lnSpc>
                <a:spcPct val="9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News and current affairs (e.g. predict from headlines, match headlines to summaries;  compare English and Turkish press reports)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35880" indent="0">
              <a:lnSpc>
                <a:spcPct val="9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35880" indent="-335880">
              <a:lnSpc>
                <a:spcPct val="98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Recreational reading: report to the class, write a book review.  (Use children’s literature appropriate for adults e.g. Michael Morpurgo,  Roald Dahl short stories…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valuating task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52012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Topic:   ‘Cold’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How task-like is this next activity? Use the criteria to evaluate it. (e.g. is there a clear outcome? How engaging is it – would it stimulate much quality interaction?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alk to your partner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- Have they ever experienced being really, really cold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- When was the last time they felt very cold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- Do they prefer being too hot or too cold?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&gt;&gt; How could you make this activity more engaging and task-like?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om topic to tasks  - designing a task sequence</a:t>
            </a:r>
            <a:br>
              <a:rPr sz="3200"/>
            </a:b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6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ight types of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Comic Sans MS"/>
              </a:rPr>
              <a:t>Listing            Ordering &amp; Sorting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Comic Sans MS"/>
              </a:rPr>
              <a:t>Matching               Comparing    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Comic Sans MS"/>
              </a:rPr>
              <a:t>Problem solving           Predicting  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Comic Sans MS"/>
              </a:rPr>
              <a:t>Sharing personal experiences   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4d4f53"/>
                </a:solidFill>
                <a:latin typeface="Comic Sans MS"/>
              </a:rPr>
              <a:t>Projects and creative tasks</a:t>
            </a: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3760920" y="3357720"/>
            <a:ext cx="1390680" cy="39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LD</a:t>
            </a:r>
            <a:endParaRPr b="0" lang="en-US" sz="3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051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The boy who came out from the cold….’</a:t>
            </a:r>
            <a:r>
              <a:rPr b="0" i="1" lang="en-GB" sz="3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4d4f53"/>
                </a:solidFill>
                <a:latin typeface="Arial"/>
              </a:rPr>
              <a:t>Here are the headline and the first twelve words of a story that appeared in The Guardian newspaper: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4d4f53"/>
                </a:solidFill>
                <a:latin typeface="Times New Roman"/>
              </a:rPr>
              <a:t>The boy who came out from the cold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Times New Roman"/>
              </a:rPr>
              <a:t>A schoolboy who spent the night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d4f53"/>
                </a:solidFill>
                <a:latin typeface="Times New Roman"/>
              </a:rPr>
              <a:t>trapped in a butcher’s cold store …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4d4f53"/>
                </a:solidFill>
                <a:latin typeface="Arial"/>
              </a:rPr>
              <a:t>What do you think happened in the story? Think of five questions that you expect to be answered in the news item. Prepare to tell the class.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asks based on texts – a task sequ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196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d4f53"/>
                </a:solidFill>
                <a:latin typeface="Arial"/>
              </a:rPr>
              <a:t>‘</a:t>
            </a:r>
            <a:r>
              <a:rPr b="0" i="1" lang="en-GB" sz="2400" spc="-1" strike="noStrike">
                <a:solidFill>
                  <a:srgbClr val="4d4f53"/>
                </a:solidFill>
                <a:latin typeface="Arial"/>
              </a:rPr>
              <a:t>The boy that came out of the cold….’ 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How might you lead into this text? </a:t>
            </a: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Create a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mind-map for cold?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What initial task could you set to engage learners in the text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Give the first few phrases and then ask learners to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predict 5 questions that will be answered in the text (pairs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What subsequent tasks – to get learners to read,  re-read, retell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Memory challenge: groups retell the story in chronological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order / with factual errors  and compare their versions with others / tell the whole class (who have to spot the errors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ot just doing tasks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Tasks on their own are not always sufficient for language development.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Skehan: fluency at the expense of accuracy; need for ‘pushed output’ and focus on form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3640" y="333000"/>
            <a:ext cx="756612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  TBL Framework :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pportunities for noticing, retrieval, generative use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196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Priming &amp; Preparation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(exploring topic, key words &amp; phrases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Learner research (+/- glossary), list &amp; define 5 useful words, 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class brainstorm +/- list or mind map (noun phrases + verbs)…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00"/>
                </a:solidFill>
                <a:uFillTx/>
                <a:latin typeface="Arial"/>
              </a:rPr>
              <a:t>Task Cycle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ask(s) &gt;&gt; Planning &gt;&gt;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Report of outcome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Planning with input from peers, dictionary, teacher, text…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Form focus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nalysis and Practice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Exercises highlighting collocations &amp; patterns starting from a frequent word, phrases for concepts, notions, chunks etc;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Exercises extending these (dictionaries for patterns, word cards…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valuating vocabulary activ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196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Ask yourself: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Are the words focused on worth the time the activity takes to do?  (and prepare!)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Does the activity allow opportunities for one or more of the 3 major processes? (noticing, retrieval, generating)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Does it need to be done in class? 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Am I spending time preparing exercises my learners would gain from preparing?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Do my learners know how many words they need? Do they realise they will have to do a lot of independent word study to reach appropriate target levels?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Other questions…..  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Vocabulary study – explicit learning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8000"/>
              </a:lnSpc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Select useful </a:t>
            </a: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text-book exercises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for students to do rapidly at home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Select </a:t>
            </a: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useful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words from </a:t>
            </a: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end of unit word lists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for</a:t>
            </a: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word cards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advise students how to use their cards;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(L1/L2, + chunks + drawings, write in pencil, say out loud, re-mix).  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Add words </a:t>
            </a: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from other sources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the learners’ own </a:t>
            </a: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pedagogic corpus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: i.e.  text book texts, transcripts and other course materials:  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- word searches and hand-concordancing of frequent words (</a:t>
            </a:r>
            <a:r>
              <a:rPr b="0" i="1" lang="en-GB" sz="1800" spc="-1" strike="noStrike">
                <a:solidFill>
                  <a:srgbClr val="009900"/>
                </a:solidFill>
                <a:latin typeface="Arial"/>
              </a:rPr>
              <a:t>that, in, as…);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 learners can set tests for each other / contribute to a test item bank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Dictionaries, concordance programmes: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-  for common words -  notice patterns that go with different meanings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nd record them ( leaving space to fill in more similar patterns)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-  for topic words - notice collocations &amp; generate definitions, examples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Learners can report on interesting items in class. (motivating)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 lexical approach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highlights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the most frequent words, phrases and collocations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topic words and phrases that learners may need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encourages rapid vocabulary development from  beginner level upwards  so that learners can engage in meaningful interactions early on.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o why Task-based Learning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12484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TBL provides learners with natural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exposur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(input), chances to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use languag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to express what they want to mean (output), to focus on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improving their own languag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and to analyse and practise forms.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TBL is more likely to keep learners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motivated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since it builds on whatever language they know in a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positiv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way. Learners are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actively engaged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throughout the task cycle, and get chances to think for themselves and express themselves in the security of their group.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Learners become more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independent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and feel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empowered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, gaining satisfaction from successfully achieving things through the FL.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Feed-back from teache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3640" y="1844280"/>
            <a:ext cx="75661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Willingness to ‘have a go’ in lessons  (Japan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Learners develop a ‘feel’ for language and for what sounds right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Increased confidence in speaking outside class (Hungary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Students come to life during the task cycle’ (Japan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Increased motivation among students (everywhere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More autonomous learners who are likely to go on learning after their language course.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Useful sites and reading – see handou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And now a final task for your homework: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hich is colder – the North Pole or the South Pole?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To find out, visit  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illis-elt.co.uk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-  free lesson plans, articles and useful links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And try doing some </a:t>
            </a:r>
            <a:r>
              <a:rPr b="0" i="1" lang="en-GB" sz="2800" spc="-1" strike="noStrike">
                <a:solidFill>
                  <a:srgbClr val="4d4f53"/>
                </a:solidFill>
                <a:latin typeface="Arial"/>
              </a:rPr>
              <a:t>Task-based Teaching </a:t>
            </a: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with your learners! </a:t>
            </a: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All the very best! 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llis-elt.co.u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4000" y="1699920"/>
            <a:ext cx="8190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f53"/>
                </a:solidFill>
                <a:latin typeface="Arial"/>
              </a:rPr>
              <a:t>References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Edwards, C. and J. Willis (eds) 2005.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Teachers Exploring Tasks in ELT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. Palgrave MacMillan. British Council ELT Innovations Award 2006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Laufer, B. and J. Hulstijn  Incidental vocabulary acquisition in a second language: the construct of task-induced involvement. 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Applied Linguistics, Mar 2001; 22: 1 - 26. 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Leaver, B. and J. R. Willis 2004.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Task-based Instruction in FLE: practices and programs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 Georgetown University Press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Nation, I.S.P.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 Learning Vocabulary in Another Language 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Cambridge University Press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Liria, P. (ed) 2009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L'approche actionnelle dans l'enseignement des langues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 SBL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Willis, D. 2003.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Rules, Patterns and Words: Grammar and Lexis in English Language Teaching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. Cambridge University Press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Willis. D. and J. Willis 2007.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Doing Task-based Teaching 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Oxford University Press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Willis, D. and J. Willis (forthcoming) Corpus analysis for a lexical syllabus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in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The Encyclopedia of Applied Linguistics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 Wiley Blackwell 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Willis, J. 2011 </a:t>
            </a:r>
            <a:r>
              <a:rPr b="0" lang="en-US" sz="1400" spc="-1" strike="noStrike">
                <a:solidFill>
                  <a:srgbClr val="4d4f53"/>
                </a:solidFill>
                <a:latin typeface="Arial"/>
              </a:rPr>
              <a:t>Concordances in the classroom: a D.I.Y. approach to assembling and exploiting concordances of common words.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  In Tomlinson (ed)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Materials Development in Language Teaching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 Second edition, Cambridge University Press.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f53"/>
                </a:solidFill>
                <a:latin typeface="Arial"/>
              </a:rPr>
              <a:t>Useful websites: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An excellent introductory article on TBL by Richard Frost:  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http://www.teachingenglish.org.uk/think/articles/a-task-based-approach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Four articles on TBL by Jane Willis can be found at: 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http://www.teachingenglish.org.uk/think/articles/criteria-identifying-tasks-tbl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Free sample task-based lesson plans at 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www.willis-elt.co.uk/taskbased.html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56576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ey frequency figures for English</a:t>
            </a:r>
            <a:br>
              <a:rPr sz="2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100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50% of all text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300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65% (grammatical coverage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700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70%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3000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85% (basic competence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6000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90% (to read unsimplified text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15,000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95% (to read independently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How do I find these words?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95280" y="620640"/>
            <a:ext cx="8353440" cy="53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Collins COBUILD English Dictiona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* * * * *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700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* * * *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1000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* * * 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1500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* * 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3000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* 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8000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755640" y="1557360"/>
            <a:ext cx="7345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Most frequent words includ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the 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in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is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w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of 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that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he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and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I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for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to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it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on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h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a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was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you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…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ree processes that aid retention of lexical item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431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Noticing:  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giving attention to an item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(need for motivation &amp; interest;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value of negotiation, definition)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Retrieval: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receptive - retrieving meaning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lvl="3" marL="1600200" indent="0">
              <a:lnSpc>
                <a:spcPct val="108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or productive - retrieving the form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lvl="3" marL="1600200" indent="0">
              <a:lnSpc>
                <a:spcPct val="108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(value of spaced repetition, incidental learning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3" marL="1600200" indent="0">
              <a:lnSpc>
                <a:spcPct val="108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Generative processing and creative use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(value of retelling, split information tasks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</a:rPr>
              <a:t>(Nation 2001:63-74)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Learning is affected  by…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degree of ‘task involvement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’        Laufer and Hulstijn 2001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-     need (felt need) for the word; (learner’s attitude important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search:  mental / dictionary / glossary;  (+ cognitive effort)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-    evaluation: deciding if word choice is appropriate; (+processing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o how can Task-based Language Teaching hel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5657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…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how can TBLT help us to create optimum conditions for these three major processes – noticing, retrieval, generative?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f53"/>
                </a:solidFill>
                <a:latin typeface="Arial"/>
              </a:rPr>
              <a:t>But first – some surprising research findings</a:t>
            </a:r>
            <a:r>
              <a:rPr b="0" lang="en-GB" sz="1600" spc="-1" strike="noStrike">
                <a:solidFill>
                  <a:srgbClr val="4d4f53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Things that cause interference, impede retrieval and learning: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X  pre-teaching lexical sets (e.g. days of week, colours)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X  contrastive teaching  (e.g. </a:t>
            </a:r>
            <a:r>
              <a:rPr b="0" i="1" lang="en-GB" sz="1600" spc="-1" strike="noStrike">
                <a:solidFill>
                  <a:srgbClr val="c90062"/>
                </a:solidFill>
                <a:latin typeface="Arial"/>
              </a:rPr>
              <a:t>since</a:t>
            </a: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 and </a:t>
            </a:r>
            <a:r>
              <a:rPr b="0" i="1" lang="en-GB" sz="1600" spc="-1" strike="noStrike">
                <a:solidFill>
                  <a:srgbClr val="c90062"/>
                </a:solidFill>
                <a:latin typeface="Arial"/>
              </a:rPr>
              <a:t>for</a:t>
            </a: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 ; </a:t>
            </a:r>
            <a:r>
              <a:rPr b="0" i="1" lang="en-GB" sz="1600" spc="-1" strike="noStrike">
                <a:solidFill>
                  <a:srgbClr val="c90062"/>
                </a:solidFill>
                <a:latin typeface="Arial"/>
              </a:rPr>
              <a:t>effective / affective</a:t>
            </a: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X  opposites, near synonyms (if taught together, become stored together)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Generally better for learners to meet lexical items in contexts.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Tasks and TBT can supply meaning-based contexts and memorable associations.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</a:rPr>
              <a:t>&gt;So what do we mean by task?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6932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haracteristics of effective tasks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ive crite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8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Would the activity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engag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learners’ interest 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and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 generate quality interaction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Is there a primary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focus on meaning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Does it have a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clear outcom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for learners to achieve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Is success judged in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terms of outcom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? Is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completion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a priority?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Does it relate to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real world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activities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If you can answer YES to all these, it should be an effective task.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1:04:38Z</dcterms:created>
  <dc:creator>ndikomuj</dc:creator>
  <dc:description/>
  <dc:language>en-US</dc:language>
  <cp:lastModifiedBy>Kenneth Page</cp:lastModifiedBy>
  <dcterms:modified xsi:type="dcterms:W3CDTF">2011-12-23T06:37:15Z</dcterms:modified>
  <cp:revision>124</cp:revision>
  <dc:subject/>
  <dc:title>Slide 1</dc:title>
</cp:coreProperties>
</file>